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71D-E6F6-487C-AC0D-C642DF5F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1E8-E4E7-47DB-A43D-DB6CC787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C61-8870-4390-AF3A-93637ABE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8E1-5474-43C6-AFF9-32DB76CE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8F1E-4FBA-47E7-B235-3CE96070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F65D-DF3F-4995-8993-52D4C2A8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8AC8-2A7A-4B38-BE3A-9F2E7486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461C-C2FC-4A92-99DE-6F00149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118-2FD8-45C2-9EA7-183CB158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713A-8EC5-4086-8CD0-6194BEF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C0A2-0DC6-4AF4-9C05-6886C4F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384-9F45-42B6-8625-98EC01CE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7CD9-0D49-4FCA-BB6B-8155286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7605-26E1-461D-B495-D2B6D385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81CD-34AB-46BA-AF1F-C540A202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8FAD-0A1E-4052-9FD6-6A6C6DA2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6B89-5DA2-4B18-BECC-EDCDA1F1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C89-B053-4D96-9189-C541C628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A87-853B-4C18-8063-C5CF65A2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785-8EA9-4626-857F-8C8C75D0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EAC-70FD-4031-878A-4555CCD6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AA5-46D4-4DBB-B74E-FA1030F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03D-A822-47AB-A589-BE2A5FC3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DA4-E9A9-48F5-AB09-DA26A9AA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AF72-8149-494F-A0F1-84AF8BAB9E2C}" type="datetime">
              <a:rPr b="0" lang="pl-PL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1D11-D642-45A0-B02D-3AFEA4B0A918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13CF-9AFC-44F3-835D-A5DC76FE0AE2}" type="datetime">
              <a:rPr b="0" lang="pl-PL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F425-41BA-4933-B9EA-1537DB718A68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3399"/>
                </a:solidFill>
                <a:latin typeface="Times New Roman"/>
              </a:rPr>
              <a:t>KWASY  NIEORGANICZ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Times New Roman"/>
              </a:rPr>
              <a:t>CHARAKTERYSTY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ecff"/>
                </a:solidFill>
                <a:latin typeface="Times New Roman"/>
              </a:rPr>
              <a:t>Jolanta Szymanows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7AE4-1742-425A-9244-401A02B0B03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ff66"/>
                </a:solidFill>
                <a:latin typeface="Times New Roman"/>
              </a:rPr>
              <a:t>4.  Kwas  siarkowy (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20325600">
            <a:off x="1001520" y="3062880"/>
            <a:ext cx="358128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6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</a:t>
            </a:r>
            <a:r>
              <a:rPr b="0" lang="pl-PL" sz="6000" spc="-1" strike="noStrike" baseline="-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00720" y="1916280"/>
          <a:ext cx="4643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916280"/>
                    <a:ext cx="4643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F14-9D6D-4654-85D8-A79A0C13F3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ff66"/>
                </a:solidFill>
                <a:latin typeface="Times New Roman"/>
              </a:rPr>
              <a:t>5.  Kwas  fosforow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886200" y="1447920"/>
          <a:ext cx="414180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447920"/>
                    <a:ext cx="41418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 rot="1202400">
            <a:off x="468000" y="4005360"/>
            <a:ext cx="3505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pl-PL" sz="6000" spc="-1" strike="noStrike" baseline="-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l-PL" sz="6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pl-PL" sz="6000" spc="-1" strike="noStrike" baseline="-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8CA-EEF6-49EA-8A73-62F7C38993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4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ff66"/>
                </a:solidFill>
                <a:latin typeface="Times New Roman"/>
              </a:rPr>
              <a:t>6.   Kwas  węglow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42920" y="1557360"/>
          <a:ext cx="4184640" cy="42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41846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 rot="19827600">
            <a:off x="5486400" y="1905120"/>
            <a:ext cx="2598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pl-PL" sz="60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6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pl-PL" sz="6000" spc="-1" strike="noStrike" baseline="-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850-CFF7-4FF8-B3D0-645C7A7503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99"/>
                </a:solidFill>
                <a:latin typeface="Times New Roman"/>
              </a:rPr>
              <a:t>ZASTOSOWANIE   KWASU</a:t>
            </a:r>
            <a:br>
              <a:rPr sz="3200"/>
            </a:br>
            <a:r>
              <a:rPr b="0" i="1" lang="pl-PL" sz="3200" spc="-1" strike="noStrike">
                <a:solidFill>
                  <a:srgbClr val="000099"/>
                </a:solidFill>
                <a:latin typeface="Times New Roman"/>
              </a:rPr>
              <a:t>CHLOROWODOROWEG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47640" y="1628640"/>
          <a:ext cx="6370920" cy="35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628640"/>
                    <a:ext cx="637092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954-0360-4240-ADB3-1C09B9C82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99"/>
                </a:solidFill>
                <a:latin typeface="Times New Roman"/>
              </a:rPr>
              <a:t>ZASTOSOWANIE   KWASU</a:t>
            </a:r>
            <a:br>
              <a:rPr sz="3200"/>
            </a:br>
            <a:r>
              <a:rPr b="0" i="1" lang="pl-PL" sz="3200" spc="-1" strike="noStrike">
                <a:solidFill>
                  <a:srgbClr val="000099"/>
                </a:solidFill>
                <a:latin typeface="Times New Roman"/>
              </a:rPr>
              <a:t>SIARKOWEGO (VI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56280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1E8-4404-4BF4-BAF1-C14F6A3EDA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99"/>
                </a:solidFill>
                <a:latin typeface="Times New Roman"/>
              </a:rPr>
              <a:t>ZASTOSOWANIE   KWASU</a:t>
            </a:r>
            <a:br>
              <a:rPr sz="3200"/>
            </a:br>
            <a:r>
              <a:rPr b="0" i="1" lang="pl-PL" sz="3200" spc="-1" strike="noStrike">
                <a:solidFill>
                  <a:srgbClr val="000099"/>
                </a:solidFill>
                <a:latin typeface="Times New Roman"/>
              </a:rPr>
              <a:t>FOSFOROWEG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514920" cy="43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C8D-875F-47DD-8F3E-ED1D46949D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99"/>
                </a:solidFill>
                <a:latin typeface="Times New Roman"/>
              </a:rPr>
              <a:t>ZASTOSOWANIE   KWASU</a:t>
            </a:r>
            <a:br>
              <a:rPr sz="3200"/>
            </a:br>
            <a:r>
              <a:rPr b="0" i="1" lang="pl-PL" sz="3200" spc="-1" strike="noStrike">
                <a:solidFill>
                  <a:srgbClr val="000099"/>
                </a:solidFill>
                <a:latin typeface="Times New Roman"/>
              </a:rPr>
              <a:t>AZOTOWEG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51880" cy="37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62D-1148-4754-8D46-563A10C20A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ccecff"/>
                </a:solidFill>
                <a:latin typeface="Times New Roman"/>
              </a:rPr>
              <a:t>OTRZYMYWANIE  </a:t>
            </a:r>
            <a:br>
              <a:rPr sz="3200"/>
            </a:br>
            <a:r>
              <a:rPr b="1" i="1" lang="pl-PL" sz="3200" spc="-1" strike="noStrike">
                <a:solidFill>
                  <a:srgbClr val="ccecff"/>
                </a:solidFill>
                <a:latin typeface="Times New Roman"/>
              </a:rPr>
              <a:t>KWASÓW  TLENOWYCH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66"/>
                </a:solidFill>
                <a:latin typeface="Times New Roman"/>
              </a:rPr>
              <a:t>reakcja  tlenku niemetalu (bezwodnika kwasowego)  z wodą np</a:t>
            </a:r>
            <a:r>
              <a:rPr b="0" lang="pl-PL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99"/>
                </a:solidFill>
                <a:latin typeface="Arial"/>
                <a:ea typeface="Times New Roman"/>
              </a:rPr>
              <a:t>SO</a:t>
            </a:r>
            <a:r>
              <a:rPr b="0" lang="pl-PL" sz="4800" spc="-1" strike="noStrike" baseline="-30000">
                <a:solidFill>
                  <a:srgbClr val="000099"/>
                </a:solidFill>
                <a:latin typeface="Arial"/>
                <a:ea typeface="Times New Roman"/>
              </a:rPr>
              <a:t>3</a:t>
            </a:r>
            <a:r>
              <a:rPr b="0" lang="pl-PL" sz="4800" spc="-1" strike="noStrike">
                <a:solidFill>
                  <a:srgbClr val="000099"/>
                </a:solidFill>
                <a:latin typeface="Arial"/>
                <a:ea typeface="Times New Roman"/>
              </a:rPr>
              <a:t>  +  H</a:t>
            </a:r>
            <a:r>
              <a:rPr b="0" lang="pl-PL" sz="4800" spc="-1" strike="noStrike" baseline="-30000">
                <a:solidFill>
                  <a:srgbClr val="000099"/>
                </a:solidFill>
                <a:latin typeface="Arial"/>
                <a:ea typeface="Times New Roman"/>
              </a:rPr>
              <a:t>2 </a:t>
            </a:r>
            <a:r>
              <a:rPr b="0" lang="pl-PL" sz="4800" spc="-1" strike="noStrike">
                <a:solidFill>
                  <a:srgbClr val="000099"/>
                </a:solidFill>
                <a:latin typeface="Arial"/>
                <a:ea typeface="Times New Roman"/>
              </a:rPr>
              <a:t>O  </a:t>
            </a:r>
            <a:r>
              <a:rPr b="0" lang="pl-PL" sz="4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pl-PL" sz="4800" spc="-1" strike="noStrike">
                <a:solidFill>
                  <a:srgbClr val="000099"/>
                </a:solidFill>
                <a:latin typeface="Arial"/>
                <a:ea typeface="Times New Roman"/>
              </a:rPr>
              <a:t>  H</a:t>
            </a:r>
            <a:r>
              <a:rPr b="0" lang="pl-PL" sz="4800" spc="-1" strike="noStrike" baseline="-30000">
                <a:solidFill>
                  <a:srgbClr val="000099"/>
                </a:solidFill>
                <a:latin typeface="Arial"/>
                <a:ea typeface="Times New Roman"/>
              </a:rPr>
              <a:t>2</a:t>
            </a:r>
            <a:r>
              <a:rPr b="0" lang="pl-PL" sz="4800" spc="-1" strike="noStrike">
                <a:solidFill>
                  <a:srgbClr val="000099"/>
                </a:solidFill>
                <a:latin typeface="Arial"/>
                <a:ea typeface="Times New Roman"/>
              </a:rPr>
              <a:t> SO</a:t>
            </a:r>
            <a:r>
              <a:rPr b="0" lang="pl-PL" sz="4800" spc="-1" strike="noStrike" baseline="-30000">
                <a:solidFill>
                  <a:srgbClr val="000099"/>
                </a:solidFill>
                <a:latin typeface="Arial"/>
                <a:ea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258920" y="3473280"/>
            <a:ext cx="6913440" cy="20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698-41D2-4A31-9174-AEA93B10B0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ccecff"/>
                </a:solidFill>
                <a:latin typeface="Times New Roman"/>
              </a:rPr>
              <a:t>KWASY</a:t>
            </a:r>
            <a:br>
              <a:rPr sz="4400"/>
            </a:br>
            <a:r>
              <a:rPr b="0" i="1" lang="pl-PL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pl-PL" sz="3600" spc="-1" strike="noStrike">
                <a:solidFill>
                  <a:srgbClr val="ccecff"/>
                </a:solidFill>
                <a:latin typeface="Times New Roman"/>
              </a:rPr>
              <a:t>związki  chemiczne zbudowane </a:t>
            </a:r>
            <a:br>
              <a:rPr sz="3600"/>
            </a:br>
            <a:r>
              <a:rPr b="0" i="1" lang="pl-PL" sz="3600" spc="-1" strike="noStrike">
                <a:solidFill>
                  <a:srgbClr val="ccecff"/>
                </a:solidFill>
                <a:latin typeface="Times New Roman"/>
              </a:rPr>
              <a:t>z atomu wodoru i   reszty kwasowej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329440" cy="318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E0E-EACC-43FB-8E4C-BB4FF3DE4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99"/>
                </a:solidFill>
                <a:latin typeface="Times New Roman"/>
              </a:rPr>
              <a:t>Wzór  ogólny  kwasów nieorganiczny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pl-PL" sz="8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- oznacza atom wod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- ilość atomów wodoru w cząsteczce kw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- reszta kwaso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41D-DC13-4484-A8BC-61CA7EAF1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Times New Roman"/>
              </a:rPr>
              <a:t>Podział  kwasów   ze względu </a:t>
            </a:r>
            <a:br>
              <a:rPr sz="4400"/>
            </a:br>
            <a:r>
              <a:rPr b="0" lang="pl-PL" sz="4400" spc="-1" strike="noStrike">
                <a:solidFill>
                  <a:srgbClr val="ccecff"/>
                </a:solidFill>
                <a:latin typeface="Times New Roman"/>
              </a:rPr>
              <a:t>na  skład   reszty  kwasowej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604960" y="2333160"/>
            <a:ext cx="3859200" cy="3429360"/>
            <a:chOff x="2604960" y="2333160"/>
            <a:chExt cx="3859200" cy="3429360"/>
          </a:xfrm>
        </p:grpSpPr>
        <p:sp>
          <p:nvSpPr>
            <p:cNvPr id="220" name="_s91147"/>
            <p:cNvSpPr/>
            <p:nvPr/>
          </p:nvSpPr>
          <p:spPr>
            <a:xfrm>
              <a:off x="2822400" y="2333520"/>
              <a:ext cx="3427560" cy="3429000"/>
            </a:xfrm>
            <a:prstGeom prst="blockArc">
              <a:avLst>
                <a:gd name="adj1" fmla="val 13500000"/>
                <a:gd name="adj2" fmla="val 8100000"/>
                <a:gd name="adj3" fmla="val 2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_s91150"/>
            <p:cNvSpPr/>
            <p:nvPr/>
          </p:nvSpPr>
          <p:spPr>
            <a:xfrm rot="10800000">
              <a:off x="2822040" y="2333160"/>
              <a:ext cx="3427560" cy="3429000"/>
            </a:xfrm>
            <a:prstGeom prst="blockArc">
              <a:avLst>
                <a:gd name="adj1" fmla="val 13500000"/>
                <a:gd name="adj2" fmla="val 8100000"/>
                <a:gd name="adj3" fmla="val 2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_s91145"/>
            <p:cNvSpPr/>
            <p:nvPr/>
          </p:nvSpPr>
          <p:spPr>
            <a:xfrm>
              <a:off x="5178600" y="3405240"/>
              <a:ext cx="12855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</a:rPr>
                <a:t>BEZTLENOW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_s91149"/>
            <p:cNvSpPr/>
            <p:nvPr/>
          </p:nvSpPr>
          <p:spPr>
            <a:xfrm>
              <a:off x="2604960" y="3405240"/>
              <a:ext cx="12859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</a:rPr>
                <a:t>TLENOW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611-8BC3-4DA6-9811-A1F4E31ED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79280" y="2064600"/>
            <a:ext cx="8665920" cy="2679840"/>
            <a:chOff x="179280" y="2064600"/>
            <a:chExt cx="8665920" cy="2679840"/>
          </a:xfrm>
        </p:grpSpPr>
        <p:cxnSp>
          <p:nvCxnSpPr>
            <p:cNvPr id="225" name="_s94227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5864040" y="2360520"/>
              <a:ext cx="229680" cy="29322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8" name="_s94220"/>
            <p:cNvCxnSpPr>
              <a:stCxn id="229" idx="0"/>
              <a:endCxn id="227" idx="2"/>
            </p:cNvCxnSpPr>
            <p:nvPr/>
          </p:nvCxnSpPr>
          <p:spPr>
            <a:xfrm flipV="1">
              <a:off x="4512960" y="3711960"/>
              <a:ext cx="1800" cy="22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0" name="_s94219"/>
            <p:cNvCxnSpPr>
              <a:stCxn id="231" idx="0"/>
              <a:endCxn id="227" idx="2"/>
            </p:cNvCxnSpPr>
            <p:nvPr/>
          </p:nvCxnSpPr>
          <p:spPr>
            <a:xfrm flipH="1" flipV="1" rot="5400000">
              <a:off x="2931480" y="2359800"/>
              <a:ext cx="229680" cy="2934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7" name="_s94215"/>
            <p:cNvSpPr/>
            <p:nvPr/>
          </p:nvSpPr>
          <p:spPr>
            <a:xfrm>
              <a:off x="2257920" y="2064600"/>
              <a:ext cx="4509000" cy="164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4800" spc="-1" strike="noStrike">
                  <a:solidFill>
                    <a:srgbClr val="000099"/>
                  </a:solidFill>
                  <a:latin typeface="Times New Roman"/>
                </a:rPr>
                <a:t>WŁAŚCIWOŚĆI 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4800" spc="-1" strike="noStrike">
                  <a:solidFill>
                    <a:srgbClr val="000099"/>
                  </a:solidFill>
                  <a:latin typeface="Times New Roman"/>
                </a:rPr>
                <a:t>FIZYCZNE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_s94216"/>
            <p:cNvSpPr/>
            <p:nvPr/>
          </p:nvSpPr>
          <p:spPr>
            <a:xfrm>
              <a:off x="179280" y="3941640"/>
              <a:ext cx="2800800" cy="802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ystępują w postac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odnych roztworów</a:t>
              </a:r>
              <a:r>
                <a:rPr b="0" lang="pl-PL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_s94217"/>
            <p:cNvSpPr/>
            <p:nvPr/>
          </p:nvSpPr>
          <p:spPr>
            <a:xfrm>
              <a:off x="3111840" y="3941640"/>
              <a:ext cx="2800800" cy="802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dobrze  rozpuszczaln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  wodz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_s94226"/>
            <p:cNvSpPr/>
            <p:nvPr/>
          </p:nvSpPr>
          <p:spPr>
            <a:xfrm>
              <a:off x="6044400" y="3941640"/>
              <a:ext cx="2800800" cy="802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harakterystyczny</a:t>
              </a:r>
              <a:r>
                <a:rPr b="0" lang="pl-PL" sz="20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zapa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2F1-A7A9-46C2-B853-93FDF50A49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ff"/>
                </a:solidFill>
                <a:latin typeface="Times New Roman"/>
              </a:rPr>
              <a:t>WŁAŚCIWOŚCI   CHEMICZ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aktywne chemicz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ulegają reakcjom z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wodorotlenki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aktywnym met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aktywnym tlenkiem meta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odczyn kwaś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A84-1DF4-4AA3-A1A3-360026D70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ff"/>
                </a:solidFill>
                <a:latin typeface="Arial"/>
              </a:rPr>
              <a:t>WZORY</a:t>
            </a:r>
            <a:r>
              <a:rPr b="0" lang="pl-PL" sz="36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0000ff"/>
                </a:solidFill>
                <a:latin typeface="Arial"/>
              </a:rPr>
              <a:t>SUMARYCZNE</a:t>
            </a:r>
            <a:r>
              <a:rPr b="0" lang="pl-PL" sz="36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0000ff"/>
                </a:solidFill>
                <a:latin typeface="Arial"/>
              </a:rPr>
              <a:t>I  MODELE CZĄSTECZEK   KWASÓW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ff66"/>
                </a:solidFill>
                <a:latin typeface="Times New Roman"/>
              </a:rPr>
              <a:t>1. Kwas  siarkowy (IV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15800">
            <a:off x="687600" y="3341520"/>
            <a:ext cx="350532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5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</a:t>
            </a:r>
            <a:r>
              <a:rPr b="0" lang="en-US" sz="5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211640" y="1892160"/>
          <a:ext cx="403236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892160"/>
                    <a:ext cx="403236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B61-F7D0-4C51-B375-4ACD82D220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ff66"/>
                </a:solidFill>
                <a:latin typeface="Times New Roman"/>
              </a:rPr>
              <a:t>2. </a:t>
            </a:r>
            <a:r>
              <a:rPr b="1" i="1" lang="pl-PL" sz="4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pl-PL" sz="4400" spc="-1" strike="noStrike">
                <a:solidFill>
                  <a:srgbClr val="ffff66"/>
                </a:solidFill>
                <a:latin typeface="Times New Roman"/>
              </a:rPr>
              <a:t>Kwas azotow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284720" y="1628640"/>
          <a:ext cx="43196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628640"/>
                    <a:ext cx="43196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rot="19525800">
            <a:off x="1109160" y="2044080"/>
            <a:ext cx="3276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NO</a:t>
            </a:r>
            <a:r>
              <a:rPr b="0" lang="pl-PL" sz="5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8A6-D070-4769-9DEA-3862CB8C62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ff66"/>
                </a:solidFill>
                <a:latin typeface="Times New Roman"/>
              </a:rPr>
              <a:t>3.  Kwas  chlorowodorow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56000" y="1413000"/>
          <a:ext cx="472284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413000"/>
                    <a:ext cx="472284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 rot="1532400">
            <a:off x="1402920" y="386028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</a:t>
            </a:r>
            <a:r>
              <a:rPr b="0" lang="pl-PL" sz="6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7AD-930C-4DEE-BA58-EAB202FB00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4c</cp:lastModifiedBy>
  <dcterms:modified xsi:type="dcterms:W3CDTF">2002-10-31T11:23:44Z</dcterms:modified>
  <cp:revision>57</cp:revision>
  <dc:subject/>
  <dc:title>Prezentacja programu PowerPoint</dc:title>
</cp:coreProperties>
</file>